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1A3-856B-4FD4-9223-E61DFB2B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129-4BF4-40B8-A99E-3A61D806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3F6-A52E-4862-95EA-97EBFD77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237-9C14-4718-AF6D-DE07E92A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0467-73F3-41DC-9ED9-81F1491F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5CB4-00DC-4DC7-8A55-04BDBC3E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69AF-85C3-4560-AF86-BE98254A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897C-FADE-4254-BE19-2D4D9A39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8E68-6CEB-4056-9635-EFB2AB6A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CC7F-0777-4209-9DEA-266A2688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5D44-2AFE-4EF9-9B54-EC627148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957-084A-4D05-976D-5EDCF836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3E2C-4BF4-4157-BF30-B69134D1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2EE6-EE16-4498-B2F8-F83F8EFF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FA85-833D-4599-92AF-713F2BC7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B124-10D1-422E-9BFF-D26DCE74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5D31-2128-4A50-8CC0-9B90EA90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CAA-C17C-429C-8FA7-1E767B54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939-C46A-40DA-B8AF-43E13984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A71-6C57-4A03-8F68-2B12AB66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9D0-3D3A-4C98-8269-6753456F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6152-9C48-43C7-8747-94F1CAA4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AC6-276C-4713-AA56-BF434B0A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BA6-84D8-445F-8BEE-CBC30818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565E-BE7C-4962-AEDB-357B9654D3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1EA9-39E7-48F4-BF5A-F371DB93C9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16280" y="669960"/>
            <a:ext cx="5940360" cy="5518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42000" y="3068640"/>
            <a:ext cx="17928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81640" y="4915080"/>
            <a:ext cx="17964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57720" y="4915080"/>
            <a:ext cx="17928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4527720" y="1268280"/>
            <a:ext cx="179280" cy="1796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72000" y="1808280"/>
            <a:ext cx="17964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46280" y="1943280"/>
            <a:ext cx="17928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37000" y="2798640"/>
            <a:ext cx="179280" cy="1796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72000" y="3924360"/>
            <a:ext cx="17928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81280" y="6173640"/>
            <a:ext cx="41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nauczyciel.wsipnet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06640" y="998640"/>
            <a:ext cx="5757840" cy="431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51280" y="238608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27720" y="189216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76640" y="193680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1640" y="387180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1280" y="418608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243216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81640" y="364644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97360" y="333216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46280" y="5815080"/>
            <a:ext cx="65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kty oznacza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użymi literami alfab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7360" y="5364000"/>
            <a:ext cx="41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ro.com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flipV="1">
            <a:off x="1646280" y="2214360"/>
            <a:ext cx="4635360" cy="238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32360" y="189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276640" y="684000"/>
            <a:ext cx="5805360" cy="103500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720" y="1314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467000" y="1719360"/>
            <a:ext cx="4725720" cy="1349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32360" y="14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07000" y="2933640"/>
            <a:ext cx="3014640" cy="144000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3080" y="3878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6280" y="5184720"/>
            <a:ext cx="71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e oznacza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łymi literami alfab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YBRANE WŁAŚCIWOŚCI PROST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376280" y="1537920"/>
            <a:ext cx="7156440" cy="1125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32000" y="1763640"/>
            <a:ext cx="4861080" cy="765360"/>
          </a:xfrm>
          <a:prstGeom prst="line">
            <a:avLst/>
          </a:prstGeom>
          <a:ln w="1584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627360" y="1854360"/>
            <a:ext cx="2879640" cy="449280"/>
          </a:xfrm>
          <a:prstGeom prst="line">
            <a:avLst/>
          </a:prstGeom>
          <a:ln w="1584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27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46640" y="1943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6700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32720" y="18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0" y="1224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36640" y="324468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każdej prostej należ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ele pun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57360" y="3789360"/>
            <a:ext cx="6975360" cy="112572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4103640"/>
            <a:ext cx="3059280" cy="495360"/>
          </a:xfrm>
          <a:prstGeom prst="line">
            <a:avLst/>
          </a:prstGeom>
          <a:ln w="15840">
            <a:solidFill>
              <a:srgbClr val="99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22720" y="414972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464328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11280" y="5094360"/>
            <a:ext cx="67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ez dwa różne punkty przechodzi dokładni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na pr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85920" y="5634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 n wyznaczona jest przez punkty K i L i oznaczmy symbolem KL i czytamy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sta K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07360" y="459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1646280" y="1133280"/>
            <a:ext cx="6570720" cy="306036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67000" y="1763640"/>
            <a:ext cx="6435720" cy="270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57720" y="458280"/>
            <a:ext cx="2384280" cy="41403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458640"/>
            <a:ext cx="2114640" cy="4500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6640" y="414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7000" y="3682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67720" y="954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07360" y="405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0920" y="5454720"/>
            <a:ext cx="765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ez jeden punkt przechodz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ieskończenie wiele pros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30621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1106640" y="1584000"/>
            <a:ext cx="7380000" cy="215892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93080" y="1314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457360" y="1537920"/>
            <a:ext cx="6164280" cy="1800360"/>
          </a:xfrm>
          <a:prstGeom prst="line">
            <a:avLst/>
          </a:prstGeom>
          <a:ln w="1584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97000" y="342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16280" y="441972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nkt A podzielił prostą m 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wie półpr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16280" y="5003640"/>
            <a:ext cx="59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nkt A jest początkiem każdej z półpros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22360" y="1494000"/>
            <a:ext cx="6929640" cy="32400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82000" y="4284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2000" y="1989000"/>
            <a:ext cx="3914640" cy="1844640"/>
          </a:xfrm>
          <a:prstGeom prst="line">
            <a:avLst/>
          </a:prstGeom>
          <a:ln w="15840">
            <a:solidFill>
              <a:srgbClr val="99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22360" y="207972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92720" y="387828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16280" y="4554360"/>
            <a:ext cx="4049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ółprosta F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 początku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punkcie F i przechodząca przez punkt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20:26Z</dcterms:modified>
  <cp:revision>17</cp:revision>
  <dc:subject/>
  <dc:title>Slajd 1</dc:title>
</cp:coreProperties>
</file>